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png" ContentType="image/png"/>
  <Override PartName="/ppt/media/chimes.wav" ContentType="audio/x-wav"/>
  <Override PartName="/ppt/media/image6.jpeg" ContentType="image/jpeg"/>
  <Override PartName="/ppt/media/image7.wmf" ContentType="image/x-wmf"/>
  <Override PartName="/ppt/media/image11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12.wmf" ContentType="image/x-wmf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E18A-7D03-444D-8041-22C61C5DF9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0775-F9A0-4073-A278-78F5FDD7298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8A10-8D56-46E6-BC12-26E130064AB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CBAF-FA13-4362-AD6F-E8FF1F2F546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8AF1-197D-4033-ABC8-36BC93BE7BC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4BA5-A973-42E9-877A-9B4B54275C8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AD3F-5D9C-4A29-8AF2-B214EB48C44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76A4-073E-4D03-8339-E6BF7939FE4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7C4C-AE7B-4632-8A99-CD18B2AC505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A470-99FD-466D-A258-318273B8788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9F23-57A4-48B8-8022-0B1A39147BA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8478-CF26-41B8-9C59-D75A70B88FA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D056-88F3-4E95-80EE-19C28E8EE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85BE-14EF-4553-A8F3-CF9387EF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5E4F-0DFF-494B-8F9D-79C4340EF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BE7F-58A0-4651-8A0F-CF1906FAD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1A39-EDE4-4922-B9C9-79AAFD9C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805D-1FA3-41DF-8EFB-0C0D6C4F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92ED-E24E-427D-BFE2-36772C0D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8CDE-ADE4-4880-B58D-A2A42E24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C34E-BC39-4614-89C3-34841AC5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29FE-E49A-45C1-8FC5-71500C7E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D014-2F24-40B8-A63B-AB3DC659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EBF9-0ADA-415B-AC11-59028675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93A8-E006-4137-921F-F8FB10E49096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7e52d"/>
              </a:solidFill>
              <a:latin typeface="Book Antiqua"/>
            </a:endParaRPr>
          </a:p>
        </p:txBody>
      </p:sp>
      <p:pic>
        <p:nvPicPr>
          <p:cNvPr id="50" name="Picture 5" descr="C:\Documents and Settings\bcsuser\Local Settings\Temporary Internet Files\Content.IE5\HZ9USTVL\MCAN01106_0000[1].wmf"/>
          <p:cNvPicPr/>
          <p:nvPr/>
        </p:nvPicPr>
        <p:blipFill>
          <a:blip r:embed="rId2"/>
          <a:stretch/>
        </p:blipFill>
        <p:spPr>
          <a:xfrm>
            <a:off x="3505320" y="914400"/>
            <a:ext cx="1476360" cy="1743120"/>
          </a:xfrm>
          <a:prstGeom prst="rect">
            <a:avLst/>
          </a:prstGeom>
          <a:ln w="0">
            <a:noFill/>
          </a:ln>
        </p:spPr>
      </p:pic>
      <p:sp>
        <p:nvSpPr>
          <p:cNvPr id="51" name="Curved Left Arrow 7"/>
          <p:cNvSpPr/>
          <p:nvPr/>
        </p:nvSpPr>
        <p:spPr>
          <a:xfrm>
            <a:off x="7315200" y="190512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3377999"/>
                <a:lnTo>
                  <a:pt x="5400" y="21334"/>
                </a:lnTo>
                <a:lnTo>
                  <a:pt x="0" y="18350"/>
                </a:lnTo>
                <a:lnTo>
                  <a:pt x="5400" y="14834"/>
                </a:lnTo>
                <a:lnTo>
                  <a:pt x="5400" y="16459"/>
                </a:lnTo>
                <a:arcTo wR="21600" hR="8363" stAng="3377999" swAng="-3114862"/>
                <a:lnTo>
                  <a:pt x="21188" y="9988"/>
                </a:lnTo>
                <a:arcTo wR="21600" hR="8363" stAng="-263137" swAng="-5136863"/>
                <a:close/>
              </a:path>
              <a:path fill="darkenLess"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-263137"/>
                <a:lnTo>
                  <a:pt x="21188" y="9988"/>
                </a:lnTo>
                <a:arcTo wR="21600" hR="8363" stAng="-263137" swAng="-5136863"/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Curved Right Arrow 8"/>
          <p:cNvSpPr/>
          <p:nvPr/>
        </p:nvSpPr>
        <p:spPr>
          <a:xfrm>
            <a:off x="990720" y="175248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3" stAng="-5400000" swAng="-5400000"/>
                <a:lnTo>
                  <a:pt x="0" y="11613"/>
                </a:lnTo>
                <a:arcTo wR="21600" hR="8363" stAng="10800000" swAng="-3377999"/>
                <a:lnTo>
                  <a:pt x="16200" y="21334"/>
                </a:lnTo>
                <a:lnTo>
                  <a:pt x="21600" y="18350"/>
                </a:lnTo>
                <a:lnTo>
                  <a:pt x="16200" y="14834"/>
                </a:lnTo>
                <a:lnTo>
                  <a:pt x="16200" y="16459"/>
                </a:lnTo>
                <a:arcTo wR="21600" hR="8363" stAng="7422001" swAng="3114862"/>
                <a:lnTo>
                  <a:pt x="412" y="9988"/>
                </a:lnTo>
                <a:arcTo wR="21600" hR="8363" stAng="-10536863" swAng="5136863"/>
                <a:close/>
              </a:path>
              <a:path fill="darkenLess" w="21600" h="21600">
                <a:moveTo>
                  <a:pt x="21600" y="0"/>
                </a:moveTo>
                <a:arcTo wR="21600" hR="8363" stAng="-5400000" swAng="-5400000"/>
                <a:lnTo>
                  <a:pt x="0" y="8363"/>
                </a:lnTo>
                <a:arcTo wR="21600" hR="8363" stAng="10800000" swAng="-263137"/>
                <a:lnTo>
                  <a:pt x="412" y="9988"/>
                </a:lnTo>
                <a:arcTo wR="21600" hR="8363" stAng="-10536863" swAng="5136863"/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w you can help burrowing owls to not go instinct is to adopt on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79" name="Picture 4" descr="C:\Documents and Settings\bcsuser\Local Settings\Temporary Internet Files\Content.IE5\ARBQG4H9\MPj02625430000[1].jpg"/>
          <p:cNvPicPr/>
          <p:nvPr/>
        </p:nvPicPr>
        <p:blipFill>
          <a:blip r:embed="rId2"/>
          <a:stretch/>
        </p:blipFill>
        <p:spPr>
          <a:xfrm>
            <a:off x="2743200" y="2819520"/>
            <a:ext cx="365760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website I went on to research is endangerdspecies.com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2" name="Picture 4" descr="C:\Documents and Settings\bcsuser\Local Settings\Temporary Internet Files\Content.IE5\HZ9USTVL\MCj00885100000[1].wmf"/>
          <p:cNvPicPr/>
          <p:nvPr/>
        </p:nvPicPr>
        <p:blipFill>
          <a:blip r:embed="rId2"/>
          <a:stretch/>
        </p:blipFill>
        <p:spPr>
          <a:xfrm>
            <a:off x="3733920" y="3124080"/>
            <a:ext cx="1685880" cy="18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30492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typical average size is length: 10 inches and weight is 6 ounce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5" name="Picture 4" descr="C:\Documents and Settings\bcsuser\Local Settings\Temporary Internet Files\Content.IE5\U8F2E6RG\MPj04387650000[1].jpg"/>
          <p:cNvPicPr/>
          <p:nvPr/>
        </p:nvPicPr>
        <p:blipFill>
          <a:blip r:embed="rId2"/>
          <a:stretch/>
        </p:blipFill>
        <p:spPr>
          <a:xfrm>
            <a:off x="1981080" y="2743200"/>
            <a:ext cx="524844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life span is clutch size: 3 to 12 eggs and gestation is 28 day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8" name="Picture 4" descr="C:\Documents and Settings\bcsuser\Local Settings\Temporary Internet Files\Content.IE5\ARBQG4H9\MPj02626580000[1].jpg"/>
          <p:cNvPicPr/>
          <p:nvPr/>
        </p:nvPicPr>
        <p:blipFill>
          <a:blip r:embed="rId2"/>
          <a:stretch/>
        </p:blipFill>
        <p:spPr>
          <a:xfrm>
            <a:off x="3359160" y="2743200"/>
            <a:ext cx="242568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burrowing owls diet is moles, mice, and  some bird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1" name="Picture 4" descr="C:\Documents and Settings\bcsuser\Local Settings\Temporary Internet Files\Content.IE5\HZ9USTVL\MCj03701400000[1].wmf"/>
          <p:cNvPicPr/>
          <p:nvPr/>
        </p:nvPicPr>
        <p:blipFill>
          <a:blip r:embed="rId2"/>
          <a:stretch/>
        </p:blipFill>
        <p:spPr>
          <a:xfrm>
            <a:off x="3701880" y="2509920"/>
            <a:ext cx="1740240" cy="183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current population is that there are 10,000 in South Americ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4" name="Picture 5" descr="C:\Documents and Settings\bcsuser\Local Settings\Temporary Internet Files\Content.IE5\U8F2E6RG\MPj04065170000[1].jpg"/>
          <p:cNvPicPr/>
          <p:nvPr/>
        </p:nvPicPr>
        <p:blipFill>
          <a:blip r:embed="rId2"/>
          <a:stretch/>
        </p:blipFill>
        <p:spPr>
          <a:xfrm>
            <a:off x="2284560" y="2590920"/>
            <a:ext cx="457488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burrowing owl lives in South Americ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7" name="Picture 4" descr="C:\Documents and Settings\bcsuser\Local Settings\Temporary Internet Files\Content.IE5\ARBQG4H9\MCj04414190000[1].wmf"/>
          <p:cNvPicPr/>
          <p:nvPr/>
        </p:nvPicPr>
        <p:blipFill>
          <a:blip r:embed="rId2"/>
          <a:stretch/>
        </p:blipFill>
        <p:spPr>
          <a:xfrm>
            <a:off x="3890880" y="2517840"/>
            <a:ext cx="1362240" cy="182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typical behavior is its active and bobs its head if its in distres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70" name="Picture 4" descr="C:\Documents and Settings\bcsuser\Local Settings\Temporary Internet Files\Content.IE5\HZ9USTVL\MPj04394700000[1].jpg"/>
          <p:cNvPicPr/>
          <p:nvPr/>
        </p:nvPicPr>
        <p:blipFill>
          <a:blip r:embed="rId2"/>
          <a:stretch/>
        </p:blipFill>
        <p:spPr>
          <a:xfrm>
            <a:off x="1371600" y="2971800"/>
            <a:ext cx="640080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threats are horned owls, hawks, pesticides, and prairie dog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73" name="Picture 4" descr="C:\Documents and Settings\bcsuser\Local Settings\Temporary Internet Files\Content.IE5\IJHZ0Q1H\MCj04241520000[1].wmf"/>
          <p:cNvPicPr/>
          <p:nvPr/>
        </p:nvPicPr>
        <p:blipFill>
          <a:blip r:embed="rId2"/>
          <a:stretch/>
        </p:blipFill>
        <p:spPr>
          <a:xfrm>
            <a:off x="3733920" y="3200400"/>
            <a:ext cx="1514520" cy="21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7200" y="152388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enemies and predators are domestic cats, hawks, birds, and pesticide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76" name="Picture 4" descr="C:\Documents and Settings\bcsuser\Local Settings\Temporary Internet Files\Content.IE5\U8F2E6RG\MPj04010830000[1].jpg"/>
          <p:cNvPicPr/>
          <p:nvPr/>
        </p:nvPicPr>
        <p:blipFill>
          <a:blip r:embed="rId2"/>
          <a:stretch/>
        </p:blipFill>
        <p:spPr>
          <a:xfrm>
            <a:off x="3505320" y="2819520"/>
            <a:ext cx="2081160" cy="2627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9:02:05Z</dcterms:created>
  <dc:creator>pc#3</dc:creator>
  <dc:description/>
  <dc:language>en-US</dc:language>
  <cp:lastModifiedBy>Guest</cp:lastModifiedBy>
  <dcterms:modified xsi:type="dcterms:W3CDTF">2009-11-28T09:49:21Z</dcterms:modified>
  <cp:revision>13</cp:revision>
  <dc:subject/>
  <dc:title>Burrowing owl</dc:title>
</cp:coreProperties>
</file>